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AE2-D389-4D84-8DB3-AC12CCCB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B00A-1756-476F-8EF1-91328BED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eatricebiologist.com/2011/01/protists-they-make-no-sen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82A5-6C8D-45FB-B8AB-A5118FBF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3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…they are most closely related to the slime moulds. Visible on cladogram in textbook (Fig.6 p.6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DAB2-B908-4FEA-B698-3BE4E79D9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icroscopy-uk.org.uk/mag/indexmag.html?http://www.microscopy-uk.org.uk/mag/artsep01/amoeb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D291-9C4D-4501-9546-3028A9547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C28A-4733-407B-992C-AA17D3AC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quia.com/jg/1601936lis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7F7E-AFB7-4501-8BC2-67983B93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aid.nih.gov/topics/Malaria/Pages/lifecycl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: Phylum Apicomplexa…closely related to the Cili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FB1E-310E-4BCB-AB21-0A264AE21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66.147.244.104/~loveanh0/?p=10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B631-0CBD-4DF1-ABF1-2A1DEEA1F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hsapbiop2-taxa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54D-6F1D-4078-A288-277DCE95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160/160S09_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F627-8655-4402-8FBF-04A66029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A6D8-8757-401C-8F41-A105F9F7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ookc.pbworks.com/w/page/46197520/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67A8-6AF3-43C9-B040-8671E829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01science.com/parameciu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 of contractile vacuole: https://www.youtube.com/watch?v=9Ynm5ZOW59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900-2BBA-4BE3-941C-B43E7013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0BD6-B8E1-40C1-9AFB-4C0EA121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cps.edu/islandcreekes/ecology/euglen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DA2-B004-40EC-B74D-10C75A6B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79D-F3F0-4CE8-92CD-38B3568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4E6-0FA0-4677-A1D6-230F4832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80F-F1A9-4409-960D-EBFECC9C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2B3-18DD-4151-96F3-73CF445D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088-84E1-4D1F-82E1-1AE70ACB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593-B0F7-45EF-B9A6-E36C194C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F71-D7D0-421F-B3E5-3463BB32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67D-16AF-44F7-88EE-34C0436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B44-6034-46A4-A52B-C408A0CE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E0C-8E29-4B97-A5A8-F71516C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0E3-5710-4015-A633-917FD6C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A0D2-0317-4A8B-A764-2223A5821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moeb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3 Structure of an amoeba"/>
          <p:cNvPicPr/>
          <p:nvPr/>
        </p:nvPicPr>
        <p:blipFill>
          <a:blip r:embed="rId1"/>
          <a:stretch/>
        </p:blipFill>
        <p:spPr>
          <a:xfrm>
            <a:off x="1944720" y="1981080"/>
            <a:ext cx="525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moebaproteus450"/>
          <p:cNvPicPr/>
          <p:nvPr/>
        </p:nvPicPr>
        <p:blipFill>
          <a:blip r:embed="rId1"/>
          <a:srcRect l="4819" t="0" r="481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0920" y="501336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this video of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oe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ulfing 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pvOz4V699g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(binary f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(conjug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prot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involving formation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lternation-of-generations-"/>
          <p:cNvPicPr/>
          <p:nvPr/>
        </p:nvPicPr>
        <p:blipFill>
          <a:blip r:embed="rId1"/>
          <a:stretch/>
        </p:blipFill>
        <p:spPr>
          <a:xfrm>
            <a:off x="2063880" y="609480"/>
            <a:ext cx="501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lifecycleWeb"/>
          <p:cNvPicPr/>
          <p:nvPr/>
        </p:nvPicPr>
        <p:blipFill>
          <a:blip r:embed="rId1"/>
          <a:stretch/>
        </p:blipFill>
        <p:spPr>
          <a:xfrm>
            <a:off x="2176560" y="1752480"/>
            <a:ext cx="471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rot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diverse…from small single-celled to large plant-like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88"/>
          <p:cNvPicPr/>
          <p:nvPr/>
        </p:nvPicPr>
        <p:blipFill>
          <a:blip r:embed="rId1"/>
          <a:stretch/>
        </p:blipFill>
        <p:spPr>
          <a:xfrm>
            <a:off x="2408400" y="1523880"/>
            <a:ext cx="4402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ukaryoteorigin"/>
          <p:cNvPicPr/>
          <p:nvPr/>
        </p:nvPicPr>
        <p:blipFill>
          <a:blip r:embed="rId1"/>
          <a:stretch/>
        </p:blipFill>
        <p:spPr>
          <a:xfrm>
            <a:off x="1960560" y="1600200"/>
            <a:ext cx="5146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of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of aquatic foo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 (malaria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ver fe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&amp; food additives (nori, agar, carrageena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Parameci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aramecium2"/>
          <p:cNvPicPr/>
          <p:nvPr/>
        </p:nvPicPr>
        <p:blipFill>
          <a:blip r:embed="rId1"/>
          <a:stretch/>
        </p:blipFill>
        <p:spPr>
          <a:xfrm>
            <a:off x="1673280" y="1981080"/>
            <a:ext cx="579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contractile vacuoles in ac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9Ynm5ZOW59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arameciumdrop9_300"/>
          <p:cNvPicPr/>
          <p:nvPr/>
        </p:nvPicPr>
        <p:blipFill>
          <a:blip r:embed="rId1"/>
          <a:stretch/>
        </p:blipFill>
        <p:spPr>
          <a:xfrm>
            <a:off x="1649520" y="533520"/>
            <a:ext cx="569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Euglen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1 Structure of a euglena"/>
          <p:cNvPicPr/>
          <p:nvPr/>
        </p:nvPicPr>
        <p:blipFill>
          <a:blip r:embed="rId1"/>
          <a:stretch/>
        </p:blipFill>
        <p:spPr>
          <a:xfrm>
            <a:off x="2308320" y="1981080"/>
            <a:ext cx="452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5L"/>
          <p:cNvPicPr/>
          <p:nvPr/>
        </p:nvPicPr>
        <p:blipFill>
          <a:blip r:embed="rId1"/>
          <a:srcRect l="5557" t="0" r="55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136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is beautiful phase-contrast video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youtube.com/watch?v=jl0TzaWUQ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14:04Z</dcterms:created>
  <dc:creator>rubina khan</dc:creator>
  <dc:description/>
  <dc:language>en-US</dc:language>
  <cp:lastModifiedBy>rubina khan</cp:lastModifiedBy>
  <dcterms:modified xsi:type="dcterms:W3CDTF">2016-02-23T16:16:59Z</dcterms:modified>
  <cp:revision>38</cp:revision>
  <dc:subject/>
  <dc:title>The Protists</dc:title>
</cp:coreProperties>
</file>